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3F9C-8348-4F17-AC57-EF43D517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8C34-6066-4AB9-A117-38F31DD8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E4BB-A801-42E1-82DA-BED24158A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50F9-7C6A-4D41-89C2-7EF91E36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C316A-2E2D-4402-9EA2-70EF64333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41435-1279-4D26-B8B4-068CA5B2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45E60-C1A7-49D4-887F-DB8812A1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50DAF-9C8E-4904-9837-36A9C04F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1B9C7-894B-448F-A7AD-EA0E8074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CFD94-7A33-4B9B-947B-763A4388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C11A8-3257-482E-AE27-6A27764A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C00E-2871-4941-B49D-EAEBABE1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38EB3-7051-44F2-B7F4-84A0FA37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5B909-109B-4742-A04B-BA46DD8D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6C038-6214-4531-8EFB-25DB1304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D50A0-6024-49E2-B343-497993B3F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6259C-297C-47E7-AFA4-F95C83C72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883D-96ED-4558-984A-EC195DEF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CA26-D9CC-4EB9-BF30-7BC29482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E291-88CE-4983-905D-2CBC4BCB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1B16-BDA5-4643-8134-957E2D4E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D987-3724-4C25-B10F-D956A999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2AF1-36C2-4382-AE3F-DCD09979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B3CD-A46E-43A0-A708-63B6A0B6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5B52-772A-46BA-BAB3-4AE4719BEA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CE1B-25EC-41AF-AB67-DEEB320E8F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he United Kingdom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4, Lesson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Samuel 18-19; Psa.5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.23-2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view Major Timelin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tt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riarc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xod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quest of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ted King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a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v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om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2819520"/>
            <a:ext cx="10670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324480" y="3047760"/>
            <a:ext cx="10670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467480" y="2895480"/>
            <a:ext cx="1371600" cy="785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 the last less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had become a hero in Isra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defeat of the Philistine giant, Goli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In the aftermath of David’s heroic act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nathan admires David – 1 Sa. 18:1-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prospers in Saul’s service – 18:5-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ul has slain is thous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id his ten-thous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ds that sent Saul into jealou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ul’s hatred for David grows – vs.10-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aul’s Jealous Hatr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s to his murderous pl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his eyes David must d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nathan pleads for David’s life -19:1-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chal helps David escape – 8-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 the stress of having his life threatened, David writes down this prayer –Psalm 5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salm 59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salmist prays for deliverance from his enemies, whose desperate wickedness he describes, v. 1-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professes strong confidence in God, v. 8-1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speaks of the destruction of his enemies, v. 11-1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praises God for benefits already received; and determines to trust in Him, v. 16-1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2590920" y="380880"/>
            <a:ext cx="3895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avid Goes to Ramah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517680"/>
            <a:ext cx="9144000" cy="6340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3048120" y="228600"/>
            <a:ext cx="2809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odern Ramah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92088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3733920" y="228600"/>
            <a:ext cx="1724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amah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343400" y="990720"/>
            <a:ext cx="76320" cy="3962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avid Finds God’s Protec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Conscientious Fri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u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 company of proph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God’s power to turn things around 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Sam.19:18-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13:08:52Z</dcterms:created>
  <dc:creator>Terry W. Benton</dc:creator>
  <dc:description/>
  <dc:language>en-US</dc:language>
  <cp:lastModifiedBy>Terry W. Benton</cp:lastModifiedBy>
  <dcterms:modified xsi:type="dcterms:W3CDTF">2005-04-12T14:57:08Z</dcterms:modified>
  <cp:revision>1</cp:revision>
  <dc:subject/>
  <dc:title>The United Kingdom</dc:title>
</cp:coreProperties>
</file>